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3939-ABB0-4CCD-BAD6-E436A83F4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EBF8-D6D4-4585-804B-82CDB6162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642-99A4-45F7-A91B-B1E3B55A4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AF66-135B-43F9-8250-B7CC434B7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CA5A-5D78-4032-9616-6FFE188F2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8E8-2C4A-4D2F-A40C-1CB653C1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D0B-75BC-4B15-9CE4-424F9B0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FA9-D43E-4D4B-8DDB-8CC3E175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1C5-370F-492D-9A1A-E3B8D4B2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BE9-08E0-4D60-9AC7-5BBD350D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A7A-CFB4-43B7-8FFE-DE8B7999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04C-A130-490C-9065-232B9908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8B8-03A4-4446-9519-3D90503D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E44-B6F9-4235-91E0-A1156EC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03D-3A31-48BC-915E-935DD30E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3C9-A1F7-49C0-BC41-90ECA8B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9C5-4165-4B4A-8FBD-67FA3BF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AFDF-B029-4A6B-AC55-656A3D8BF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bb3"/>
                </a:solidFill>
                <a:latin typeface="Times New Roman"/>
              </a:rPr>
              <a:t>DIFFERENTIATED INSTRUCTION</a:t>
            </a:r>
            <a:r>
              <a:rPr b="1" lang="en-US" sz="4400" spc="-1" strike="noStrike">
                <a:solidFill>
                  <a:srgbClr val="fffcc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le Y. Thieman, Ed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114880" y="605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80880" y="685800"/>
            <a:ext cx="815364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fff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Differentiated Instruction is the teacher’s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to learners’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"/>
          <p:cNvSpPr/>
          <p:nvPr/>
        </p:nvSpPr>
        <p:spPr>
          <a:xfrm>
            <a:off x="45720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2895480"/>
            <a:ext cx="7543800" cy="6098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bb3"/>
                </a:solidFill>
                <a:latin typeface="Times New Roman"/>
              </a:rPr>
              <a:t>guided by principles of differentiation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 flipH="1">
            <a:off x="2438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720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541008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838080" y="4800600"/>
            <a:ext cx="190512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6019920" y="4572000"/>
            <a:ext cx="2590560" cy="91440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352680" y="4952880"/>
            <a:ext cx="2286000" cy="8384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b3"/>
                </a:solidFill>
                <a:latin typeface="Times New Roman"/>
              </a:rPr>
              <a:t>WHAT CAN BE DIFFERENTI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5800" y="13716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505320" y="1371600"/>
            <a:ext cx="220968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095880" y="1371600"/>
            <a:ext cx="236232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5146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b3"/>
                </a:solidFill>
                <a:latin typeface="Times New Roman"/>
              </a:rPr>
              <a:t>According to student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3808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50532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095880" y="43434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ACCESS TO INSTRUCTIONAL CONTENT : same skills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manipu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s, e.g. novels at multiple reading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 recordings or videos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ed 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compacting  (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psis of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/adult men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f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Process or activity by which learner makes sense of concepts or skills  based on  readiness, interest, learn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red activities or projects at differ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 with varied pro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-pair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1=  +, -, interest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Differentiate Product by which student demonstrat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ptions for student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work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ing degrees of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ty of assess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 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rmative &amp; summativ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&amp; self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ubrics with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24280" y="609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Checklist for Grou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1447920" y="228600"/>
          <a:ext cx="266688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26668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task &amp; expectation for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is interesting &amp; matches instruction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requires genuine collaboration and important contribution from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s are brisk.   Students know what to do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out for students who are not succeeding with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for teacher/peer coaching &amp; in-process quality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Linking Quality Teaching &amp; Differentiation.</a:t>
            </a:r>
            <a:r>
              <a:rPr b="1" lang="en-US" sz="3200" spc="-1" strike="noStrike">
                <a:solidFill>
                  <a:srgbClr val="fffcc7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based on essential ideas &amp; skills related to th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relevant, coherent, &amp;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expectations f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, activities, products focus 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interests &amp; engages l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&amp; products require higher level thinking &amp; complex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criteria for high qualit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 environment is respectful of each student &amp; group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Resources for Promoting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 A. (1999)The differentiated classroom: Responding to the needs of all learners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&amp; Allan,S.D. (2000) Leadership for differentiating schools and classrooms. 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(2001)  How to differentiate instruction in mixed-ability classrooms.  2nd ed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scd.org   for summaries of the books,study guides, and videos  by Toml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6:07:10Z</dcterms:created>
  <dc:creator>Gayle Y. Thieman</dc:creator>
  <dc:description/>
  <dc:language>en-US</dc:language>
  <cp:lastModifiedBy>Ben</cp:lastModifiedBy>
  <dcterms:modified xsi:type="dcterms:W3CDTF">2011-01-25T01:35:02Z</dcterms:modified>
  <cp:revision>8</cp:revision>
  <dc:subject/>
  <dc:title>DIFFERENTIATED INSTRUCTION</dc:title>
</cp:coreProperties>
</file>